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239-9A06-4853-8544-E8D0A117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8E9-78FA-4B2C-88A8-1F8E3525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A15-7CA1-4CAA-88A7-343C09D7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39A-1DDA-4EB4-9550-360325AF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560-ECC0-4B30-99A5-5053DA2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032-49CD-4A65-BDF7-1BA08F6D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D25-9F68-442F-8EAE-937E2478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81C-1411-49BE-AE29-8E516AC0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AFE-692F-4A96-928C-497335B2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C86-A8AD-4523-9343-A818AC2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31C-F1E1-4B70-A061-9F1F45E8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80D-B8E0-4880-9955-C63751F9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98C4-483C-4E00-826B-04A2E02BD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cross to the gr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grave to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ove sing your prai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, everyday I lift your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, everyday I lift your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ove sing your prai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I’m so glad you’re my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I’m so glad you came to save 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You came from heaven to ear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To show the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earth to the cro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My debt to p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cross to the gr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grave to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ove sing your prai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I’m so glad you’re my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I’m so glad you came to save 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You came from heaven to ear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To show the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earth to the cro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My debt to p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cross to the gr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grave to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, everyday I lift your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, everyday I lift your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You came from heaven to ear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To show the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earth to the cro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My debt to p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20:23:36Z</dcterms:created>
  <dc:creator>DG</dc:creator>
  <dc:description/>
  <dc:language>en-US</dc:language>
  <cp:lastModifiedBy>DG</cp:lastModifiedBy>
  <dcterms:modified xsi:type="dcterms:W3CDTF">2007-08-04T20:24:39Z</dcterms:modified>
  <cp:revision>2</cp:revision>
  <dc:subject/>
  <dc:title>Lord I lift your name on high</dc:title>
</cp:coreProperties>
</file>